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n NPT, not YG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 point #2, installation will be carried out by government financed contractors or utilities themsel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specify where ad will be made globally in English (UNDB website and other sites? ) and how to access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PE is not relevant here.  Please change “MEPE and Utilitites” to “MOE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clarify that 15% preference applies to locally manufactured goods regardless of the nationality of the owner– this is important particularly when  Myanmar will have more and more JVs in the fu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3FC-05EB-48CD-9B30-957E690D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FA8-14EF-47DB-9823-D2DFA4E9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14BF4-0DC8-4F73-9629-9C418B4F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DD69C-3435-4404-8A99-3C50342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FC552-F2AD-42D2-9F45-3262828B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D9817-212E-461E-AAC0-39E84A7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B8FF-9A71-40B0-A7DC-A57D321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1726D-4F58-439D-98DD-506596E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83AE7-67AC-4374-83D6-38B5C687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C828E-51BE-4ADE-9A2C-1D2C9BDF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5B4C4-4202-4630-9B30-FE013A66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3258E-4F2E-4D97-8CDD-1C7FB8D9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DFB-7B4F-43D2-919A-05EC63C5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D5AA1-541A-4B2F-B1E6-D8EBF6A4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1BFA7-E06D-4AAC-A7AD-9D51385D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3391F-60AF-46C6-9CA5-92B4FAE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02C4F-0486-4375-8A64-21EE50B0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9DA24-9002-4436-BEC1-4C578573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B6E42-1B61-4C64-861D-B21B76CD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189A2-BBA5-4D85-8415-668ABEB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14D99-F2AC-4BE9-AF52-AD644BB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3D996-063D-480C-867E-05D1D805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B7E20-2612-4D04-897E-0D291F2E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C73-A58C-42E3-AC78-C293D69F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5F1FB-7363-4FF8-95C7-CF462E8A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3F7CE-46A4-4784-8C80-85ACF17D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E896D-7BB6-48B5-A232-1BE95025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037B7-6F6F-491D-A5D4-9F1915B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84167-8150-4F2C-BE71-0733BEC5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AAF3D-6163-4ED6-9EFE-5E575273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63BA1-7AA3-4C75-B023-472EF823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A4C54-49DE-469C-A338-4C51BAB8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065C-1B4B-4F37-9712-0C04F042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787FA-9642-4D57-AE05-C5C7D5E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100F-C08C-4D4F-9627-0D16327B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DB186-8542-4A28-9AF4-962EF239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AE2F6-5E7C-4A7F-A6BC-F9082FF1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96179-1157-429C-87F6-C35CEF56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E2AB9-55E4-4A96-98F2-C39F5CFB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7E209-404E-4BA8-9DEB-9637A37D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33F18-1A3C-4D26-9457-118568FE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1B692-836F-418A-89FC-23D1C1CF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1174C-A28F-45EF-A34F-FB067397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874C1-4A50-43AD-AF22-EE29A1F9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DA9DD-7569-4F6A-ADD8-F9348EE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E881-1238-4146-B8D8-958D8D1C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61DA3-C09D-45CD-BCEA-8129983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3F3A1-0B0A-40CF-A5DB-3C7EA56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2CE0E-D46F-4983-8BEB-9DB48B0B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32F36-F085-4C1E-859A-3D5217CC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B4F90-621C-4E07-93FB-7508684F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9A2-B316-4501-9C34-3627D3D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7251-C1CF-404F-8887-5A7C0A8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837B-97D0-46F2-9F82-29865AA4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450B-B4FA-46EE-8F50-16EF57EE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C4EB-0C69-4799-BFEA-83FCF800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A25-D01C-4E51-8024-000C6539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304C-9233-433D-95F8-FC8DBDF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1CE4-1280-4D1B-AE62-FACD2BB3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A178-DB7A-40EF-9A5A-82884579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DC86-FDCF-48C0-87AD-CAD53FB6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35E9-F6FC-46DE-8B6D-5A5298FD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3056-9EB0-4128-A121-16DDE5BB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9DEA-6B39-463A-AEA5-60B22C3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C646-AC0A-4A65-B4A9-837ABAC1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B9BE1-74A6-487C-82BC-58DC7B87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AAF1-0F83-4CE9-A8BA-9B51223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9D3-1D94-4FA7-B520-D9A719FE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F1B1-C347-499E-AFBB-546F7790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BF2B-740E-487D-A13D-A1D3AF5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925D-0C37-4E37-B5C8-B686C2E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59E6-AD39-4F41-B11E-C9CED06F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96A2-48AB-4E43-972E-BD082BCE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DC85-C7DC-4B32-A194-E3784B43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4B63-79FA-4B6E-9E18-57587F25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CBED-E9ED-4391-B488-267C9B9B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7D59-16E7-44D2-8372-8BEFF4A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5FB9-2998-4B35-B478-2221BBB2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D45-002D-42C3-8AB7-0852E1D7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8C49-F4D0-402C-A3D7-3B302262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E7908-BABF-40AE-A6EE-C93E6873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79DD-6959-4CAE-826F-21FACABF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177AD-B22B-4748-B2E1-56AAB7F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F310-E421-4B07-9A2D-3CBE070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7185-0347-499E-A306-052F4D8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F4378-B006-4E96-A557-796B7F25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F39B-44C1-4C80-A64F-9E170AAA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5FB9-99C4-4DEF-B641-25F9AF51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2AD68-A2DA-4729-86B6-EEEC790F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C80-77B8-4869-96C9-2AFD883F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471B-1083-40CE-8CC9-1AA4B952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14E28-A05B-4D75-A649-9E673E0D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3E523-B5DC-42E0-ABF8-0C8F1C2F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98BD-8CA0-4F5C-9D55-947B61DD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59765-CBE8-4115-ADF8-B7A6EAB0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CCDDF-2902-4C13-AF6E-E3BE2A7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0837-1AEF-402D-939B-4B789F1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FC40-4D0D-4D9D-BDF3-8398E75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81D8-8642-48AD-BBC5-4B541914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4BB7E-92DE-4B62-A00D-629AA7E3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11F-BA55-432A-8379-A0B1A1C2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4FEC-8E47-4004-8540-9BF56631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9CC7-C948-4EC9-9503-198CC157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63697-8121-4718-81AB-E90C713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2C2E4-3256-4F42-8E1C-36D183A7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84F4-3D52-4217-88CB-9936AF2F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19C05-0ED5-49E8-B808-8F7F0402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7A40-B362-446B-A92C-13802DD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981E5-A7C5-4943-832D-A5461C4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A8E62-D05E-4C9A-8F95-6432D27F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B8DC3-CF29-4503-A73D-162B847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503-A89E-459E-9AA9-77FCD4FF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046CA-3227-48F4-B974-87328409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3C56F-0C19-4CDE-99F6-2CD65B02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2110-B6E7-41E5-8FBC-04F08F9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A1E42-9364-45AD-9201-E328EF0C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7DD66-FA04-4264-B57E-D1ADA594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AF1D9-F480-4D4C-B781-F2E1AF73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84DC-BF2C-4A5E-BCEA-48785E1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80159-038F-4748-936A-72E793E2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608FD-C231-479E-85FF-8FC82CA6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4ACE-3A8F-4E41-9E32-8A113869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6AC-8AA5-46B5-9969-024B58C8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F8C60-F912-4448-BA93-1865C19D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4FAE4-6E8B-4A9C-BFDE-2649B77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8CA51-66F7-416D-BAD7-83BACA03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0E56B-7B27-4400-9D76-AF65FC67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2269-7C82-4584-8B4E-88B41F62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FC6F2-CCE6-4928-BCF3-09941E96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BFC8-76B7-4F8D-944B-134B754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C2674-3DEC-44B5-87C3-A73F12C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1771B-755E-4439-A0E6-E984E4D0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300EC-A001-4C34-8D5C-64EA4B5E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F81-E15A-4412-B10D-B1F04A7D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C067-9C3A-46B7-83F4-95CB1F84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C2194-A622-4345-86FA-3E1BD7F1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0E31E-CC9E-4031-BBBE-7F38A875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940F7-ABD8-4A4E-BF40-A0F5A70B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8B752-3A39-4DAE-BC17-475E9510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8A994-A2CD-4D0B-A185-340EF459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30A17-A519-45FA-8870-F03027B7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2B63E-D297-46A1-AEAA-AFDF714C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98725-4AD1-4C10-A107-DCB4E619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3AF0C-8B77-4F5C-B1EB-53699EF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127D-A277-41CE-B116-869C25F3268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2D53-74A3-419A-B213-27622478F2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"/>
          <p:cNvSpPr/>
          <p:nvPr/>
        </p:nvSpPr>
        <p:spPr>
          <a:xfrm>
            <a:off x="0" y="4952880"/>
            <a:ext cx="990288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491508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4063-55B6-4DF6-9145-2AB12B3485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69E-D469-41B2-9008-F7DB42860A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DD0B-811A-422D-93FF-C78E892176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037-9EEA-4D65-B1BE-D4DFFBA7C5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E83A-41E5-47E4-8BBE-3BD746F1BE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BEC4-D330-4AF6-BA1F-1B88ABADE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B49C-19C6-40D3-A945-D086BD2856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483A-D645-4110-8D69-902CF369E3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97A2-F3CC-4FE8-B71E-3A5D28B54E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7159-CFD5-4647-98DA-FADE7523ED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0"/>
            <a:ext cx="329076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282840" y="0"/>
            <a:ext cx="5256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377640" y="6459480"/>
            <a:ext cx="212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900600" y="6459480"/>
            <a:ext cx="377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95E3-9293-4846-8DA8-B2BF52A36D37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investigations_hotline@worldbank.org" TargetMode="External"/><Relationship Id="rId2" Type="http://schemas.openxmlformats.org/officeDocument/2006/relationships/hyperlink" Target="http://www.worldbank.org/integrity" TargetMode="External"/><Relationship Id="rId3" Type="http://schemas.openxmlformats.org/officeDocument/2006/relationships/hyperlink" Target="http://wbln0018.worldbank.org/acfiu/acfiuweb.nsf/(intlinks)/CTON-5PKVJA?opendocument" TargetMode="External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documents.worldbank.org/" TargetMode="External"/><Relationship Id="rId2" Type="http://schemas.openxmlformats.org/officeDocument/2006/relationships/hyperlink" Target="http://documents.worldbank.org/curated/en/docadvancesearch" TargetMode="External"/><Relationship Id="rId3" Type="http://schemas.openxmlformats.org/officeDocument/2006/relationships/hyperlink" Target="http://documents.worldbank.org/curated/en/docadvancesearch" TargetMode="External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5"/>
          <p:cNvSpPr/>
          <p:nvPr/>
        </p:nvSpPr>
        <p:spPr>
          <a:xfrm>
            <a:off x="863640" y="228600"/>
            <a:ext cx="90424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05552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8"/>
          <p:cNvSpPr/>
          <p:nvPr/>
        </p:nvSpPr>
        <p:spPr>
          <a:xfrm>
            <a:off x="847800" y="2120760"/>
            <a:ext cx="8207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REACH SEMINAR FOR N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Opportun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World Bank funded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26" descr=""/>
          <p:cNvPicPr/>
          <p:nvPr/>
        </p:nvPicPr>
        <p:blipFill>
          <a:blip r:embed="rId1"/>
          <a:stretch/>
        </p:blipFill>
        <p:spPr>
          <a:xfrm>
            <a:off x="4672080" y="4578480"/>
            <a:ext cx="557280" cy="5824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27"/>
          <p:cNvSpPr/>
          <p:nvPr/>
        </p:nvSpPr>
        <p:spPr>
          <a:xfrm>
            <a:off x="4297680" y="549756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414240" y="611280"/>
            <a:ext cx="37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ngon – November 24, 2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3"/>
          <p:cNvSpPr/>
          <p:nvPr/>
        </p:nvSpPr>
        <p:spPr>
          <a:xfrm>
            <a:off x="1596960" y="1724040"/>
            <a:ext cx="2700360" cy="43434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79400" y="958680"/>
            <a:ext cx="833904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World Bank Procurement  Guideline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562040" y="2030400"/>
            <a:ext cx="263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curement of goods, works and non-consulting servic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nder IBRD Loans an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DA Credits &amp; Grants by World Bank Borrower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January 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vised July 2014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3071880" y="6400800"/>
            <a:ext cx="46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799956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C503-D410-4E12-8593-A8829294DEC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1549440" y="2463840"/>
            <a:ext cx="271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5435640" y="1790640"/>
            <a:ext cx="2674800" cy="433224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5448240" y="2019240"/>
            <a:ext cx="260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 and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IBRD Loan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A Credits &amp; Gra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World Bank Borr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sed July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1"/>
          <p:cNvSpPr/>
          <p:nvPr/>
        </p:nvSpPr>
        <p:spPr>
          <a:xfrm>
            <a:off x="5429160" y="246384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slogoani"/>
          <p:cNvPicPr/>
          <p:nvPr/>
        </p:nvPicPr>
        <p:blipFill>
          <a:blip r:embed="rId1"/>
          <a:stretch/>
        </p:blipFill>
        <p:spPr>
          <a:xfrm>
            <a:off x="133200" y="0"/>
            <a:ext cx="1189080" cy="993600"/>
          </a:xfrm>
          <a:prstGeom prst="rect">
            <a:avLst/>
          </a:prstGeom>
          <a:ln w="0">
            <a:noFill/>
          </a:ln>
        </p:spPr>
      </p:pic>
      <p:sp>
        <p:nvSpPr>
          <p:cNvPr id="663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9163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The Bidding Document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07560" y="1960200"/>
            <a:ext cx="7939080" cy="2787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idding documents include draft contract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contrast to the procurement guidelines, SBDs set out the rules for a particular tende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btain  and Read carefully the Bidding Document issued by the Implementing Agency 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A1B0-8904-4723-96F9-8F8C8B1DD81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Structure of the Standard Bidding Documents (SBD)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20760" y="1262160"/>
          <a:ext cx="9279000" cy="5106960"/>
        </p:xfrm>
        <a:graphic>
          <a:graphicData uri="http://schemas.openxmlformats.org/drawingml/2006/table">
            <a:tbl>
              <a:tblPr/>
              <a:tblGrid>
                <a:gridCol w="2958840"/>
                <a:gridCol w="4305600"/>
                <a:gridCol w="20145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USED UNCHANG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CUSTOMIZED BY PURCHAS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FILLED OUT BY BID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Instructions to Bidders (IT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I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Bid Data Sheet (BD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</a:tr>
              <a:tr h="243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II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Evaluation and Qualification 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 Eligible Count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.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Purchaser's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V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Bidding For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e9"/>
                    </a:solidFill>
                  </a:tcPr>
                </a:tc>
              </a:tr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I. 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General Conditions of Contract (GC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II.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pecial Conditions of Contract (SC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X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Contract For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</a:tr>
            </a:tbl>
          </a:graphicData>
        </a:graphic>
      </p:graphicFrame>
      <p:sp>
        <p:nvSpPr>
          <p:cNvPr id="671" name="Footer Placeholder 5"/>
          <p:cNvSpPr/>
          <p:nvPr/>
        </p:nvSpPr>
        <p:spPr>
          <a:xfrm>
            <a:off x="3116160" y="640080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A85-F3B5-4454-B1F0-6BA14F929C6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2680" y="-30528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Bidding  and Contract form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96360" y="1311120"/>
            <a:ext cx="494676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dding For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ter of B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s of Rates and Pr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Propos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dder Information Shee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y to JVA Information Shee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 Contract Non-Performa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Contract Commitments/Works in Progr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Situ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ence – General &amp; Specifi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 of Bid Security (Bank Guarantee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facturer’s Authoriz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789520" y="112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ract Forms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completed, will form part of the Contract.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ance Security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vance Payment Secur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88A-8F7B-4483-87F0-F93B4C903D1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63280" y="302724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Play by the rule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10880" y="197604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4068"/>
                </a:solidFill>
                <a:latin typeface="Calibri Light"/>
              </a:rPr>
              <a:t>PART II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5C7-FDEA-4B8F-B045-DBEC3178F61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2680" y="198000"/>
            <a:ext cx="84200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Important Provisions 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60240" y="1231560"/>
            <a:ext cx="8931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ligibility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(ITB 4)-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You are not allowed to participate if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You are in a Conflict of Interest situation with regards to this particular tend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Your are a State Owned Enterprise that is not  legally, financially autonomous and does not operate under commercial law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y compliance with a UN Security Council Sanctions, Borrower’s country prohibits any import of goods from, or payments to, your country, person, or entity and/or prohibits payments to your firm or for goods your are offer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You are under sanction by the Bank or other MDBs relating to fraud and corrup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f you are not fulfilling legal requirements as required by the country e.g. paying tax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329E-FB01-4A73-A1FF-53BE0D649480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circumstances would be regarded as conflict of interes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Providing goods resulting from consulting services provided by yourself or affiliat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Submitting more than one bid as individual or JV. Does not include subcontracto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Close family or business relationship with staff of implementing agenc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Directly or indirectly controls or is controlled  by another bidd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Receives or has received subsidy from another bidd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Has the same legal representative as another bidd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3F19-903E-442F-8AE1-79031A5BC3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State owned enterprise may participate under following circumstances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Can demonstrate that they are legally, financial and managerially autonomous (Submit all legal documents and Bank will assess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Not bidding for a contract under its supervising minist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In agreement with the Bank if works are scattered and remote  such that it is not feasible to obtain competitive bid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In areas of  conflict or strife where it is not practical for private sector to operate  effective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DDE7-B167-4876-AE8D-A2590D7DC86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2684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Documents Comprising the Bid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52280" y="1922400"/>
            <a:ext cx="460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a) Letter of Bi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b) Completed schedul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c) Bid Security or Bid Securing Declaration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d) Alternative bids, if permissible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e) Written confirmation authorizing the signatory of the Bid to commit the Bidder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f) Documentary evidence that the Plant and Installation Services offered  are eligible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(country of origin declaration form);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g) Documentary evidence establishing Bidder’s eligibility &amp; qualifications to perform the contract;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754520" y="1922040"/>
            <a:ext cx="515160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h) Documentary evidence that the Plant &amp; Installation Services offered conform to the Bidding Document </a:t>
            </a: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(substantial responsiveness of proposal of work requirements and completion time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i) In the case of a bid submitted by a Joint Venture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JV agreement, or letter of intent to enter into a JVA including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a draft agreement, indicating at least the parts of the Plant to be executed by the respective partners;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j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ist name and nationality of the proposed subcontractors, including manufacturers; an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(k)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ny other document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quired in the B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3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C65-3D1D-453A-ABBF-B7D21FD5C127}" type="slidenum">
              <a:rPr b="0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Some Important Provisions (1)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Bid Security (BS)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98000" y="1460520"/>
            <a:ext cx="45831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idity of Bid Security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ant to show bidder is seriou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rmally between 0.5-2% of bid price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all be valid for twenty-eight days (28) beyond the original validity period of the bid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 bid not accompanied by a substantially responsive bid security shall be rejected as non responsive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id security should be in name of bidder NOT agent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id security may be forfeited if: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16812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id is withdrawn during the period of bid validity or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16812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uccessful Bidder fails to (i) sign the Contract; or (ii) furnish a performance security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892400" y="149076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457200" indent="-16812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 are killing your bid if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39528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id security is not included in the bi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39528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S is not for the full am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39528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S is not for the entire bid validity perio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39528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S refers to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8200" indent="-56520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rong bidder (in joint ventures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rtners must be   listed)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8200" indent="-56520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rong Employer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8200" indent="-56520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rong contract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8200" indent="-56520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t (when the bid is for several lo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A245-51F9-4821-9AB9-F265A597403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58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CA2F-EB73-4AD9-8D50-DE34433580E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709560" y="46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755640" y="324000"/>
            <a:ext cx="8420040" cy="95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4068"/>
                </a:solidFill>
                <a:latin typeface="Arial"/>
              </a:rPr>
              <a:t>Objective of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816200" y="1981080"/>
            <a:ext cx="627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2093760" y="1279440"/>
            <a:ext cx="726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What should I know about WB f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project &amp; procurement activ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Who are the key players invo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How to participate in Bank funded proje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How to prepare a responsive bid</a:t>
            </a: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 (key bid requirements and common pitfalls in bid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National Electric Project  Specific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Where to find more informa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6"/>
          <p:cNvGrpSpPr/>
          <p:nvPr/>
        </p:nvGrpSpPr>
        <p:grpSpPr>
          <a:xfrm>
            <a:off x="1681200" y="1390680"/>
            <a:ext cx="247680" cy="228240"/>
            <a:chOff x="1681200" y="1390680"/>
            <a:chExt cx="247680" cy="228240"/>
          </a:xfrm>
        </p:grpSpPr>
        <p:sp>
          <p:nvSpPr>
            <p:cNvPr id="540" name="Freeform 7"/>
            <p:cNvSpPr/>
            <p:nvPr/>
          </p:nvSpPr>
          <p:spPr>
            <a:xfrm>
              <a:off x="1697400" y="140508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8"/>
            <p:cNvSpPr/>
            <p:nvPr/>
          </p:nvSpPr>
          <p:spPr>
            <a:xfrm>
              <a:off x="1681200" y="139068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9"/>
            <p:cNvSpPr/>
            <p:nvPr/>
          </p:nvSpPr>
          <p:spPr>
            <a:xfrm>
              <a:off x="1692720" y="139860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1707480" y="141012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1723320" y="144720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12"/>
            <p:cNvSpPr/>
            <p:nvPr/>
          </p:nvSpPr>
          <p:spPr>
            <a:xfrm>
              <a:off x="1725120" y="153252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>
              <a:off x="1797120" y="141444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>
              <a:off x="1709280" y="150084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5"/>
            <p:cNvSpPr/>
            <p:nvPr/>
          </p:nvSpPr>
          <p:spPr>
            <a:xfrm>
              <a:off x="1751040" y="141084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6"/>
            <p:cNvSpPr/>
            <p:nvPr/>
          </p:nvSpPr>
          <p:spPr>
            <a:xfrm>
              <a:off x="1797120" y="141084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7"/>
            <p:cNvSpPr/>
            <p:nvPr/>
          </p:nvSpPr>
          <p:spPr>
            <a:xfrm>
              <a:off x="1681200" y="139068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8"/>
          <p:cNvGrpSpPr/>
          <p:nvPr/>
        </p:nvGrpSpPr>
        <p:grpSpPr>
          <a:xfrm>
            <a:off x="1778040" y="2556000"/>
            <a:ext cx="247680" cy="228240"/>
            <a:chOff x="1778040" y="2556000"/>
            <a:chExt cx="247680" cy="228240"/>
          </a:xfrm>
        </p:grpSpPr>
        <p:sp>
          <p:nvSpPr>
            <p:cNvPr id="552" name="Freeform 19"/>
            <p:cNvSpPr/>
            <p:nvPr/>
          </p:nvSpPr>
          <p:spPr>
            <a:xfrm>
              <a:off x="1794240" y="257040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20"/>
            <p:cNvSpPr/>
            <p:nvPr/>
          </p:nvSpPr>
          <p:spPr>
            <a:xfrm>
              <a:off x="1778040" y="255600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21"/>
            <p:cNvSpPr/>
            <p:nvPr/>
          </p:nvSpPr>
          <p:spPr>
            <a:xfrm>
              <a:off x="1789560" y="256392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22"/>
            <p:cNvSpPr/>
            <p:nvPr/>
          </p:nvSpPr>
          <p:spPr>
            <a:xfrm>
              <a:off x="1804320" y="257544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23"/>
            <p:cNvSpPr/>
            <p:nvPr/>
          </p:nvSpPr>
          <p:spPr>
            <a:xfrm>
              <a:off x="1820160" y="261252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24"/>
            <p:cNvSpPr/>
            <p:nvPr/>
          </p:nvSpPr>
          <p:spPr>
            <a:xfrm>
              <a:off x="1821960" y="269784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5"/>
            <p:cNvSpPr/>
            <p:nvPr/>
          </p:nvSpPr>
          <p:spPr>
            <a:xfrm>
              <a:off x="1893960" y="257976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6"/>
            <p:cNvSpPr/>
            <p:nvPr/>
          </p:nvSpPr>
          <p:spPr>
            <a:xfrm>
              <a:off x="1806120" y="266616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7"/>
            <p:cNvSpPr/>
            <p:nvPr/>
          </p:nvSpPr>
          <p:spPr>
            <a:xfrm>
              <a:off x="1847880" y="257616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8"/>
            <p:cNvSpPr/>
            <p:nvPr/>
          </p:nvSpPr>
          <p:spPr>
            <a:xfrm>
              <a:off x="1893960" y="257616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9"/>
            <p:cNvSpPr/>
            <p:nvPr/>
          </p:nvSpPr>
          <p:spPr>
            <a:xfrm>
              <a:off x="1778040" y="255600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30"/>
          <p:cNvGrpSpPr/>
          <p:nvPr/>
        </p:nvGrpSpPr>
        <p:grpSpPr>
          <a:xfrm>
            <a:off x="1789200" y="3164040"/>
            <a:ext cx="247680" cy="228240"/>
            <a:chOff x="1789200" y="3164040"/>
            <a:chExt cx="247680" cy="228240"/>
          </a:xfrm>
        </p:grpSpPr>
        <p:sp>
          <p:nvSpPr>
            <p:cNvPr id="564" name="Freeform 31"/>
            <p:cNvSpPr/>
            <p:nvPr/>
          </p:nvSpPr>
          <p:spPr>
            <a:xfrm>
              <a:off x="1805400" y="31784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32"/>
            <p:cNvSpPr/>
            <p:nvPr/>
          </p:nvSpPr>
          <p:spPr>
            <a:xfrm>
              <a:off x="1789200" y="31640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33"/>
            <p:cNvSpPr/>
            <p:nvPr/>
          </p:nvSpPr>
          <p:spPr>
            <a:xfrm>
              <a:off x="1800720" y="317196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34"/>
            <p:cNvSpPr/>
            <p:nvPr/>
          </p:nvSpPr>
          <p:spPr>
            <a:xfrm>
              <a:off x="1815480" y="318348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5"/>
            <p:cNvSpPr/>
            <p:nvPr/>
          </p:nvSpPr>
          <p:spPr>
            <a:xfrm>
              <a:off x="1831320" y="322056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6"/>
            <p:cNvSpPr/>
            <p:nvPr/>
          </p:nvSpPr>
          <p:spPr>
            <a:xfrm>
              <a:off x="1833120" y="330588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37"/>
            <p:cNvSpPr/>
            <p:nvPr/>
          </p:nvSpPr>
          <p:spPr>
            <a:xfrm>
              <a:off x="1905120" y="318780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38"/>
            <p:cNvSpPr/>
            <p:nvPr/>
          </p:nvSpPr>
          <p:spPr>
            <a:xfrm>
              <a:off x="1817280" y="327420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9"/>
            <p:cNvSpPr/>
            <p:nvPr/>
          </p:nvSpPr>
          <p:spPr>
            <a:xfrm>
              <a:off x="1859040" y="318420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40"/>
            <p:cNvSpPr/>
            <p:nvPr/>
          </p:nvSpPr>
          <p:spPr>
            <a:xfrm>
              <a:off x="1905120" y="318420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1789200" y="316404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42"/>
          <p:cNvGrpSpPr/>
          <p:nvPr/>
        </p:nvGrpSpPr>
        <p:grpSpPr>
          <a:xfrm>
            <a:off x="1809720" y="3841920"/>
            <a:ext cx="247680" cy="228240"/>
            <a:chOff x="1809720" y="3841920"/>
            <a:chExt cx="247680" cy="228240"/>
          </a:xfrm>
        </p:grpSpPr>
        <p:sp>
          <p:nvSpPr>
            <p:cNvPr id="576" name="Freeform 43"/>
            <p:cNvSpPr/>
            <p:nvPr/>
          </p:nvSpPr>
          <p:spPr>
            <a:xfrm>
              <a:off x="1825920" y="385632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44"/>
            <p:cNvSpPr/>
            <p:nvPr/>
          </p:nvSpPr>
          <p:spPr>
            <a:xfrm>
              <a:off x="1809720" y="384192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45"/>
            <p:cNvSpPr/>
            <p:nvPr/>
          </p:nvSpPr>
          <p:spPr>
            <a:xfrm>
              <a:off x="1821240" y="384984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46"/>
            <p:cNvSpPr/>
            <p:nvPr/>
          </p:nvSpPr>
          <p:spPr>
            <a:xfrm>
              <a:off x="1836000" y="386136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7"/>
            <p:cNvSpPr/>
            <p:nvPr/>
          </p:nvSpPr>
          <p:spPr>
            <a:xfrm>
              <a:off x="1851840" y="389844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8"/>
            <p:cNvSpPr/>
            <p:nvPr/>
          </p:nvSpPr>
          <p:spPr>
            <a:xfrm>
              <a:off x="1853640" y="398376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>
              <a:off x="1925640" y="386568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>
              <a:off x="1837800" y="395208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51"/>
            <p:cNvSpPr/>
            <p:nvPr/>
          </p:nvSpPr>
          <p:spPr>
            <a:xfrm>
              <a:off x="1879560" y="386208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52"/>
            <p:cNvSpPr/>
            <p:nvPr/>
          </p:nvSpPr>
          <p:spPr>
            <a:xfrm>
              <a:off x="1925640" y="386208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53"/>
            <p:cNvSpPr/>
            <p:nvPr/>
          </p:nvSpPr>
          <p:spPr>
            <a:xfrm>
              <a:off x="1809720" y="384192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42"/>
          <p:cNvGrpSpPr/>
          <p:nvPr/>
        </p:nvGrpSpPr>
        <p:grpSpPr>
          <a:xfrm>
            <a:off x="1901880" y="4748040"/>
            <a:ext cx="247680" cy="228240"/>
            <a:chOff x="1901880" y="4748040"/>
            <a:chExt cx="247680" cy="228240"/>
          </a:xfrm>
        </p:grpSpPr>
        <p:sp>
          <p:nvSpPr>
            <p:cNvPr id="588" name="Freeform 43"/>
            <p:cNvSpPr/>
            <p:nvPr/>
          </p:nvSpPr>
          <p:spPr>
            <a:xfrm>
              <a:off x="1918080" y="47624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44"/>
            <p:cNvSpPr/>
            <p:nvPr/>
          </p:nvSpPr>
          <p:spPr>
            <a:xfrm>
              <a:off x="1901880" y="47480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45"/>
            <p:cNvSpPr/>
            <p:nvPr/>
          </p:nvSpPr>
          <p:spPr>
            <a:xfrm>
              <a:off x="1913400" y="475596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46"/>
            <p:cNvSpPr/>
            <p:nvPr/>
          </p:nvSpPr>
          <p:spPr>
            <a:xfrm>
              <a:off x="1928160" y="476748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47"/>
            <p:cNvSpPr/>
            <p:nvPr/>
          </p:nvSpPr>
          <p:spPr>
            <a:xfrm>
              <a:off x="1944000" y="480456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48"/>
            <p:cNvSpPr/>
            <p:nvPr/>
          </p:nvSpPr>
          <p:spPr>
            <a:xfrm>
              <a:off x="1945800" y="488988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9"/>
            <p:cNvSpPr/>
            <p:nvPr/>
          </p:nvSpPr>
          <p:spPr>
            <a:xfrm>
              <a:off x="2017800" y="477180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50"/>
            <p:cNvSpPr/>
            <p:nvPr/>
          </p:nvSpPr>
          <p:spPr>
            <a:xfrm>
              <a:off x="1929960" y="485820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1"/>
            <p:cNvSpPr/>
            <p:nvPr/>
          </p:nvSpPr>
          <p:spPr>
            <a:xfrm>
              <a:off x="1971720" y="476820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2"/>
            <p:cNvSpPr/>
            <p:nvPr/>
          </p:nvSpPr>
          <p:spPr>
            <a:xfrm>
              <a:off x="2017800" y="476820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3"/>
            <p:cNvSpPr/>
            <p:nvPr/>
          </p:nvSpPr>
          <p:spPr>
            <a:xfrm>
              <a:off x="1901880" y="474804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Some Important Provisions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(2)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echnical Responsivenes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bid that does not meet minimum acceptable standards of completeness, consistency and detail, and the specified minimum (or maximum, as the case may be) requirements for specified functional requirements,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ill be rejected for non responsivenes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requirements carefully and provide quality go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data and bronchures to confirm the stated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st writing “we comply “ against specifications is not enoug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ach quality assurance certificates if requir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did not manufacture goods have manufacturer authroisation certificate and warranty guarantee from manufactur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B1B0-11D5-47EC-A9C1-C28CA751EA3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Important Provisions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(3)</a:t>
            </a:r>
            <a:br>
              <a:rPr sz="3600"/>
            </a:br>
            <a:r>
              <a:rPr b="1" lang="en-US" sz="2800" spc="-1" strike="noStrike">
                <a:solidFill>
                  <a:srgbClr val="404040"/>
                </a:solidFill>
                <a:latin typeface="Calibri Light"/>
              </a:rPr>
              <a:t>Fraudulent and Corrupt Practices</a:t>
            </a:r>
            <a:br>
              <a:rPr sz="36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04480" y="1371600"/>
            <a:ext cx="376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ypes of F&amp;C Pract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rrupt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raudulent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llusive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ercive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bstructive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33640" y="1371240"/>
            <a:ext cx="577224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Bank Sanc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ject the proposal for awar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clare misprocurement and cancel the portion of the loan allocated to a contract if a representative of the Borrower is involved without the Borrower taking timely and appropriate a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clare firm or individual ineligible, indefinitely or for a stated period of tim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(i) to be awarded a Bank-financed contract; and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(ii) to be a nominated sub-contractor, consultant, supplier, or service provider in a Bank-financed contrac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libri"/>
              </a:rPr>
              <a:t>LIST OF DEBARRED FIRMS &amp; INDIVIDUAL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http://www.worldbank.org/debar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51D3-DFA9-4293-AF02-F3535CE6325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5600" y="334440"/>
            <a:ext cx="784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 Light"/>
              </a:rPr>
              <a:t>Anti-corruption Hotlin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907560" y="1127160"/>
            <a:ext cx="8502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partment of Institutional Integrity (INT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Toll-free: 1-800-831-0463 (24 hours/day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Collect call:  704-556-7046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    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BY MAIL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: 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PMB 3767</a:t>
            </a:r>
            <a:br>
              <a:rPr sz="2400"/>
            </a:b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     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13950 BALLANTYNE CORPORATE PLACE</a:t>
            </a:r>
            <a:br>
              <a:rPr sz="2400"/>
            </a:b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      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CHARLOTTE, NC 28277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, U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S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Phone:  202-458-7677  Fax: 202-522-714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-mail: </a:t>
            </a:r>
            <a:r>
              <a:rPr b="0" lang="en-US" sz="2400" spc="-1" strike="noStrike" u="sng">
                <a:solidFill>
                  <a:srgbClr val="6eac1c"/>
                </a:solidFill>
                <a:uFillTx/>
                <a:latin typeface="Calibri"/>
                <a:ea typeface="Arial"/>
                <a:hlinkClick r:id="rId1"/>
              </a:rPr>
              <a:t>investigationshotline@worldbank.org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ebsite:  </a:t>
            </a:r>
            <a:r>
              <a:rPr b="0" lang="en-US" sz="2400" spc="-1" strike="noStrike" u="sng">
                <a:solidFill>
                  <a:srgbClr val="6eac1c"/>
                </a:solidFill>
                <a:uFillTx/>
                <a:latin typeface="Calibri"/>
                <a:ea typeface="Arial"/>
                <a:hlinkClick r:id="rId2"/>
              </a:rPr>
              <a:t>www.worldbank.org/integrity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bri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Click on "</a:t>
            </a:r>
            <a:r>
              <a:rPr b="0" lang="en-US" sz="2400" spc="-1" strike="noStrike" u="sng">
                <a:solidFill>
                  <a:srgbClr val="6eac1c"/>
                </a:solidFill>
                <a:uFillTx/>
                <a:latin typeface="Calibri"/>
                <a:ea typeface="Arial"/>
                <a:hlinkClick r:id="rId3"/>
              </a:rPr>
              <a:t>Online Complaint Form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"</a:t>
            </a:r>
            <a:br>
              <a:rPr sz="2000"/>
            </a:b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nonymous calls are accepted.  Please be as specific as possible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Critical and Important Provisions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Evaluation and Qualification Criteria (Section III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867960" y="2319480"/>
            <a:ext cx="8172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ree types of criteria used in evaluation of bid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xclusion/Eligibility Criteria as defined abo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nancial Capac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echnical Capac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48D-9810-49DB-8E65-37E221967A4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Qualification Criteria- Financial Capacit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867960" y="2165400"/>
            <a:ext cx="8172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Bidders should be financially sound  to take on contracts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Documentary evidence to be provided to include audited financial statements, balance sheets and letters from Bank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2001-3340-4EEC-A380-A1F91CDBB2A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Qualification Criteria- Technical Capacit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rectly related to the subject matter of contrac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idder should have technical and logistical capacity to deliver within contract tim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ocumentary evidence may include evidence of  similar contracts, ownership or plans to own/hire specialized equipment, key staff qualifications (for installation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B700-1EC2-4741-91DE-E191514EAE4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ow can bidders enhance their qualification (1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Joint venture (JV) with other bidders. This can be for specific contract or period of time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Experience of all JV members  will be taken into account during evaluation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JV to nominate leader and leader has to meet specified minimum qualification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All documents –letter of submission, bid security etc- to be in name of JV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JV is bound to the Employer/Purchaser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B32D-6F41-4B8A-9ECD-230A28D162E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ow can bidders enhance their qualification (2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nter into subcontractor or association type relationships with other bidde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ose arrangement for specific tender or period of tim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ly qualification of main bidder will be taken into accou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ecific circumstances where scope is varied, subcontractor  experience may be taken into accou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ubcontractor is not bound to the Employer/Purchas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id security to be in the name of the main contractor not subcontractor or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5FEF-B070-4D35-872F-A62DD462EBC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37800" y="0"/>
            <a:ext cx="817236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Typical qualification criteria that may be used under specific tenders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eet exclusion/eligibility criteri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Have turnover of at least equal to the  estimated contract amount (Your estimat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ash flow requirem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st have successfully completed 1-2 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Calibri"/>
              </a:rPr>
              <a:t>similar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contracts in the past 3-5 years or cumulatively supplied the equivalent quantities within relative perio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st have logistical capacity to deliver the goods or provide plans to acquire the logistical capacity to deliver goods on time. Delivery plan may be requir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key staff to be in charge of install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fter sales services – Help desk availabil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10D0-6ED9-4DF0-B53C-A3B49E13442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92080" y="758880"/>
            <a:ext cx="817272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Part III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92080" y="445248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NEP SPECIFIC INFORM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B788-07C1-43B4-917B-C78537EDFD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88840" y="3552840"/>
            <a:ext cx="8420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 Light"/>
              </a:rPr>
              <a:t>OVERALL CONTEXT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58600" y="2453760"/>
            <a:ext cx="842004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44068"/>
                </a:solidFill>
                <a:latin typeface="Calibri Light"/>
              </a:rPr>
              <a:t>PART I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2" name="Footer Placeholder 5"/>
          <p:cNvSpPr/>
          <p:nvPr/>
        </p:nvSpPr>
        <p:spPr>
          <a:xfrm>
            <a:off x="3095640" y="636732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86A0-9322-4E06-B917-731950C0CB2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Off-grid Activities (Phase I) : Responsibilities of PMO-DR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t up within the DRD under MLFRD, the PMO will be responsible for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efining contract packages of goods and service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paring procurement plan and updates thereof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paring bidding documen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oordinating bid evaluatio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questing approval of evaluation reports from Government internal approval bodies as necessar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eking No Objection from the Bank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ontract implementation and ensuring goods received are of required quality as per contract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ngaging local governments at State/Region, District and Township level in selecting priority village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E9D5-8F8B-49D5-B2FF-9C248D1D56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Scope of goods and accessories to be procured under NEP Off-Grid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763200" y="2125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olar PV Systems for households, public institutions and street light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456,500 devices over 5 year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irst year requirements – 165,000 devi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ini-Grid System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8E8B-4C84-4A6E-9BEB-D91BEE06195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do we know about local supplie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re than 100 suppliers operating across the country in many reg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have been in operation for a periods ranging from 1 year to over 20 years with average of 5 yea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lf reported capacity varies from  500 to 38,000 units installed per yea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ajority of the suppliers have installed capacity of around 1,500 uni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otal Units installed by all suppliers were 49,000 in 2013/14, 192,000 in 2014/15 and in 2015/16 , 112,000 have been installed to da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y manufacturers? We do not have complete da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rms financial  turnover  and financial standing – No inform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38BB-90EF-4074-A2F3-9B6EF697E4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will be the approach to procure these goods? (1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upply and installation of goods and accessories to defined location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Preliminary divided into  nine (9) geographical lots (State based)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t size by number of devices  ranges from 16,000 to 39,000 units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firm will be hired to monitor installation and its standard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1DB6-ED22-4210-ABBF-9E527CDFA20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will be the approach to procure these goods? (2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892080" y="190188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Quantities required and value of goods is huge and would require international competition to deliver within  project ti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International competitive bidding (ICB) will be used to solicit bids. Adverts will be made globally in Englis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ICB approach is expected to drive unit costs down, raise the quality bar and facilitate partnership between foreign and local firm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mestic preference of locally  manufactured (not traded) goods of 15% will be given at choice of purchaser and stated in bidding documen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Bidders will be given adequate time of not less than 4 weeks to prepare bids  and form any association of their choi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835F-DE06-401B-836F-CC88F5BCBB1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ow will these goods be procured? (3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idders will be post qualified. All qualification documents should be in the bid. No prequalification will be done under the project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ward will be based on Lowest Evaluated Bid (LEB). LEB takes into account price and qualification of bidder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idders may be awarded a Lot or combination of Lots  subject to fulfilling qualification criteria for multiple lo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A49A-3E24-4B6A-BA87-35DFC1D50E9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42680" y="76320"/>
            <a:ext cx="842004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9e0e6"/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Building Blocks of a Successful Bid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2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5CBA-631F-4F06-BF5E-0B5C54CED59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3"/>
          <p:cNvSpPr/>
          <p:nvPr/>
        </p:nvSpPr>
        <p:spPr>
          <a:xfrm>
            <a:off x="4788000" y="1752480"/>
            <a:ext cx="0" cy="396252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4"/>
          <p:cNvSpPr/>
          <p:nvPr/>
        </p:nvSpPr>
        <p:spPr>
          <a:xfrm>
            <a:off x="2541600" y="3743280"/>
            <a:ext cx="4557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5199480" y="25639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-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0"/>
          <p:cNvSpPr/>
          <p:nvPr/>
        </p:nvSpPr>
        <p:spPr>
          <a:xfrm>
            <a:off x="3038760" y="4386240"/>
            <a:ext cx="9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1"/>
          <p:cNvSpPr/>
          <p:nvPr/>
        </p:nvSpPr>
        <p:spPr>
          <a:xfrm>
            <a:off x="4803840" y="1554120"/>
            <a:ext cx="2816280" cy="2141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r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3"/>
          <p:cNvSpPr/>
          <p:nvPr/>
        </p:nvSpPr>
        <p:spPr>
          <a:xfrm>
            <a:off x="4770360" y="3809880"/>
            <a:ext cx="2865600" cy="2073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Play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20"/>
          <p:cNvSpPr/>
          <p:nvPr/>
        </p:nvSpPr>
        <p:spPr>
          <a:xfrm>
            <a:off x="1844640" y="3790800"/>
            <a:ext cx="2833560" cy="2092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K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1828800" y="1554120"/>
            <a:ext cx="2849400" cy="2157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K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2"/>
          <p:cNvSpPr/>
          <p:nvPr/>
        </p:nvSpPr>
        <p:spPr>
          <a:xfrm>
            <a:off x="2911320" y="3862440"/>
            <a:ext cx="640080" cy="511200"/>
          </a:xfrm>
          <a:prstGeom prst="flowChartConnector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2"/>
          <p:cNvSpPr/>
          <p:nvPr/>
        </p:nvSpPr>
        <p:spPr>
          <a:xfrm>
            <a:off x="5851440" y="1744560"/>
            <a:ext cx="641520" cy="511200"/>
          </a:xfrm>
          <a:prstGeom prst="flowChartConnector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2"/>
          <p:cNvSpPr/>
          <p:nvPr/>
        </p:nvSpPr>
        <p:spPr>
          <a:xfrm>
            <a:off x="5883120" y="3908520"/>
            <a:ext cx="640080" cy="511200"/>
          </a:xfrm>
          <a:prstGeom prst="flowChartConnector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"/>
          <p:cNvSpPr/>
          <p:nvPr/>
        </p:nvSpPr>
        <p:spPr>
          <a:xfrm>
            <a:off x="2971800" y="1728720"/>
            <a:ext cx="639720" cy="511200"/>
          </a:xfrm>
          <a:prstGeom prst="flowChartConnector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c70"/>
                </a:solidFill>
                <a:latin typeface="Calibri Light"/>
              </a:rPr>
              <a:t>Specific  Project Procurement Information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UN  Development Business – Adverts for all large value tenders (above US$200,000 for goods, US$300,000 for works and US$100,000  for consultancie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ank external website: 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Calibri"/>
                <a:hlinkClick r:id="rId1"/>
              </a:rPr>
              <a:t>http://documents.worldbank.or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n search for procurement plans for MM projects 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curement plans can be search from  : 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Calibri"/>
                <a:hlinkClick r:id="rId3"/>
              </a:rPr>
              <a:t>documents.worldbank.org/curated/en/docadvancesearch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r http://worldbank.org, then go to 'Publication', select 'Documents and Reports', 'Advance Search', select country and document typ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appraisal Document contains first approved procurement pla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dverts in local newspap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orrower implementing agency stated in Project Appraisal Docu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511B-5259-436B-B4DE-3ED77DF993B7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When In Doubt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34800" y="1276200"/>
            <a:ext cx="858528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sk up front, do NOT guess or assum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ntact the client in writing and seek clarific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sk for more time if necessary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f bidding documents have excessive requirements or other unacceptable conditions (restrictions, brand names, etc.), contact the client in writing before the bid closing date, asking for correction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py the World Bank (TTL , Regional Procurement Manager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Remember, the WB </a:t>
            </a:r>
            <a:r>
              <a:rPr b="0" i="1" lang="en-US" sz="2400" spc="-1" strike="noStrike">
                <a:solidFill>
                  <a:srgbClr val="404040"/>
                </a:solidFill>
                <a:latin typeface="Calibri"/>
              </a:rPr>
              <a:t>does not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rovide clarification on behalf of the client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Refer to appendix 3 “Guidance to Bidders” of Procurement </a:t>
            </a:r>
            <a:r>
              <a:rPr b="0" i="1" lang="en-US" sz="2400" spc="-1" strike="noStrike">
                <a:solidFill>
                  <a:srgbClr val="404040"/>
                </a:solidFill>
                <a:latin typeface="Calibri"/>
              </a:rPr>
              <a:t>Guideline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6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B59D-3674-4FEC-980A-E25E0EC9A45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Complaint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ddress all queries or complaints to the Implementing Agenc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py the Bank (TTL + Regional Procurement Manager) or write to the Bank directly when borrowers do not respond promptly, or if the communication is a complaint against the Borrower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idders may request a debriefing about his bid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0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D028-050B-4422-BA3B-F4CC1A5D96B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22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8377-53B0-4895-B4A9-6010C46526D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2"/>
          <p:cNvSpPr/>
          <p:nvPr/>
        </p:nvSpPr>
        <p:spPr>
          <a:xfrm rot="5400000">
            <a:off x="7253640" y="3917160"/>
            <a:ext cx="1692360" cy="2087640"/>
          </a:xfrm>
          <a:prstGeom prst="ellipse">
            <a:avLst/>
          </a:prstGeom>
          <a:solidFill>
            <a:srgbClr val="75b6e5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3"/>
          <p:cNvSpPr/>
          <p:nvPr/>
        </p:nvSpPr>
        <p:spPr>
          <a:xfrm rot="5400000">
            <a:off x="852840" y="3901320"/>
            <a:ext cx="1752480" cy="1966680"/>
          </a:xfrm>
          <a:prstGeom prst="flowChartConnector">
            <a:avLst/>
          </a:prstGeom>
          <a:solidFill>
            <a:srgbClr val="1cade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743040" y="380880"/>
            <a:ext cx="8423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743040" y="1217520"/>
            <a:ext cx="842328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-88920" y="2773440"/>
            <a:ext cx="328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gency FB"/>
              </a:rPr>
              <a:t>Financing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836640" y="4694400"/>
            <a:ext cx="17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7260120" y="4449600"/>
            <a:ext cx="167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n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 rot="5400000">
            <a:off x="4001400" y="937080"/>
            <a:ext cx="1660320" cy="26208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743040" y="38088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5"/>
          <p:cNvSpPr/>
          <p:nvPr/>
        </p:nvSpPr>
        <p:spPr>
          <a:xfrm>
            <a:off x="3611520" y="1749600"/>
            <a:ext cx="237816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</a:rPr>
              <a:t>(Impleme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</a:rPr>
              <a:t>Age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6"/>
          <p:cNvSpPr/>
          <p:nvPr/>
        </p:nvSpPr>
        <p:spPr>
          <a:xfrm>
            <a:off x="6023160" y="2879640"/>
            <a:ext cx="458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gency FB"/>
              </a:rPr>
              <a:t>Bidding Documents/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743040" y="17136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4068"/>
                </a:solidFill>
                <a:latin typeface="Arial"/>
              </a:rPr>
              <a:t>Key P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18"/>
          <p:cNvSpPr/>
          <p:nvPr/>
        </p:nvSpPr>
        <p:spPr>
          <a:xfrm rot="19040400">
            <a:off x="2293560" y="3311280"/>
            <a:ext cx="1687680" cy="315720"/>
          </a:xfrm>
          <a:prstGeom prst="leftRightArrow">
            <a:avLst>
              <a:gd name="adj1" fmla="val 50000"/>
              <a:gd name="adj2" fmla="val 50040"/>
            </a:avLst>
          </a:prstGeom>
          <a:solidFill>
            <a:srgbClr val="1cade4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6231600" y="326088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gency FB"/>
              </a:rPr>
              <a:t>(Contractual relationships</a:t>
            </a:r>
            <a:r>
              <a:rPr b="0" lang="en-US" sz="2400" spc="-1" strike="noStrike">
                <a:solidFill>
                  <a:srgbClr val="344068"/>
                </a:solidFill>
                <a:latin typeface="Agency FB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/>
          <p:cNvSpPr/>
          <p:nvPr/>
        </p:nvSpPr>
        <p:spPr>
          <a:xfrm rot="13779600">
            <a:off x="5707440" y="3462840"/>
            <a:ext cx="1687680" cy="317520"/>
          </a:xfrm>
          <a:prstGeom prst="leftRightArrow">
            <a:avLst>
              <a:gd name="adj1" fmla="val 50000"/>
              <a:gd name="adj2" fmla="val 50002"/>
            </a:avLst>
          </a:prstGeom>
          <a:solidFill>
            <a:srgbClr val="1cade4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Diagram 24" descr=""/>
          <p:cNvPicPr/>
          <p:nvPr/>
        </p:nvPicPr>
        <p:blipFill>
          <a:blip r:embed="rId1"/>
          <a:stretch/>
        </p:blipFill>
        <p:spPr>
          <a:xfrm>
            <a:off x="1682640" y="1816200"/>
            <a:ext cx="6602400" cy="42004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6"/>
          <p:cNvSpPr/>
          <p:nvPr/>
        </p:nvSpPr>
        <p:spPr>
          <a:xfrm>
            <a:off x="-381600" y="3154320"/>
            <a:ext cx="408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gency FB"/>
              </a:rPr>
              <a:t>(Contractual relationshi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677680" y="5897520"/>
            <a:ext cx="479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(Non Contractual relationships</a:t>
            </a: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Footer Placeholder 3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8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E84-4256-461F-9A91-C2B56DE11056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"/>
          <p:cNvSpPr/>
          <p:nvPr/>
        </p:nvSpPr>
        <p:spPr>
          <a:xfrm>
            <a:off x="709560" y="46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1816200" y="1981080"/>
            <a:ext cx="627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068"/>
                </a:solidFill>
                <a:latin typeface="Arial"/>
              </a:rPr>
              <a:t>Ssirijaratwong@worldbank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WordArt 4"/>
          <p:cNvSpPr txBox="1"/>
          <p:nvPr/>
        </p:nvSpPr>
        <p:spPr>
          <a:xfrm>
            <a:off x="1816200" y="2362320"/>
            <a:ext cx="6032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42680" y="503280"/>
            <a:ext cx="842004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Calibri Light"/>
              </a:rPr>
              <a:t>Roles in Bank-funded Project</a:t>
            </a:r>
            <a:br>
              <a:rPr sz="4300"/>
            </a:b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4910-BE1A-4DD0-B18C-8805DE80608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Diagram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8547120" cy="5583240"/>
          </a:xfrm>
          <a:prstGeom prst="rect">
            <a:avLst/>
          </a:prstGeom>
          <a:ln w="0">
            <a:noFill/>
          </a:ln>
        </p:spPr>
      </p:pic>
      <p:sp>
        <p:nvSpPr>
          <p:cNvPr id="630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21240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Roles in Procurement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5000" y="974520"/>
            <a:ext cx="43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4068"/>
                </a:solidFill>
                <a:latin typeface="Agency FB"/>
              </a:rPr>
              <a:t>WORLD BAN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16000" y="1886040"/>
            <a:ext cx="49528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ssess country procurement system, capacity of implementing agency, and procurement risk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ssist in procurement planning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Training, knowledge/best practice sharing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Monitor compliance with Financing Agreement and Procurement Pla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Review bid documents and evaluation reports prior to issuance and award of contract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Investigate fraud and corruption alleg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32440" y="112356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4068"/>
                </a:solidFill>
                <a:latin typeface="Agency FB"/>
              </a:rPr>
              <a:t>DRD (IMPLEMENTING AGENCY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03880" y="1946160"/>
            <a:ext cx="41068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Prepare Procurement Plan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dvertise bidding opportuniti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Prepare/issue bidding document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Receive/evaluate bids/proposal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ward /Implement contract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Ensure compliance with Financing Agreement and Procurement Pla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rrange for project/program audi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Footer Placeholder 8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7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D7EC-39B0-4E53-89C1-99E11F5BED3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Steps  and actors in bidding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892080" y="1846440"/>
          <a:ext cx="8172720" cy="4587840"/>
        </p:xfrm>
        <a:graphic>
          <a:graphicData uri="http://schemas.openxmlformats.org/drawingml/2006/table">
            <a:tbl>
              <a:tblPr/>
              <a:tblGrid>
                <a:gridCol w="2809800"/>
                <a:gridCol w="1851120"/>
                <a:gridCol w="1468440"/>
                <a:gridCol w="2043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ment 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nk 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vate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 procurement plan and cost estim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 bidding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 bidding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ertise an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ys or coll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cation on bidding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 clar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k clar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ssion of b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, records in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b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d of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  <p:sp>
        <p:nvSpPr>
          <p:cNvPr id="641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39C7-76EF-424A-BC5C-30D0DD0363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Key Documents to Guide Procurement under the Projec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nancing Agreement signed between Government and World Ban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Appraisal Document (PA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orld Bank Procurement and Consultant Guidelin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Operations Manu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overnment internal processes and procedures 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Calibri"/>
              </a:rPr>
              <a:t>agreed with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Bank for the implementation of the  project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greed Procurement Pla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75E1-D43C-421D-A30A-6ADBE7697F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404040"/>
                </a:solidFill>
                <a:latin typeface="Calibri Light"/>
              </a:rPr>
              <a:t> </a:t>
            </a:r>
            <a:r>
              <a:rPr b="0" lang="en-GB" sz="3800" spc="-1" strike="noStrike">
                <a:solidFill>
                  <a:srgbClr val="404040"/>
                </a:solidFill>
                <a:latin typeface="Calibri Light"/>
              </a:rPr>
              <a:t>Bank Policy objectives in Procurement</a:t>
            </a:r>
            <a:endParaRPr b="0" lang="en-US" sz="3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892080" y="187956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NEED FOR ECONOMY AND EFFICIENC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Value for money and method should commensurate with speed and valu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GIVE ELIGIBLE BIDDERS OPPORTUNITY TO BI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Advertise widely locally in at least two newspapers of wide national circulation and UNDB websit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ENCOURAGE DEVELOPMENT OF LOCAL INDUSTR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Provide domestic preference of 15% in evaluation to local manufacturers and 7.5% for local contractors under International Competitive Bidd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TRANSPARENC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Evaluation by committee, advertise widely and publish award results. Bidders free to complain, prepare and publish procurement pla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3AB54DE6-3C49-4401-920D-90C4CEBD7E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8:21:56Z</dcterms:created>
  <dc:creator>Knut Leipold</dc:creator>
  <dc:description/>
  <dc:language>en-US</dc:language>
  <cp:lastModifiedBy>Chaw Su Devi</cp:lastModifiedBy>
  <cp:lastPrinted>2015-10-26T03:41:01Z</cp:lastPrinted>
  <dcterms:modified xsi:type="dcterms:W3CDTF">2015-12-08T07:15:54Z</dcterms:modified>
  <cp:revision>1223</cp:revision>
  <dc:subject>Forum Stuttgart</dc:subject>
  <dc:title>Business Seminar</dc:title>
</cp:coreProperties>
</file>